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1450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E218-7089-4297-82B8-A5ABB7177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80755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2973240"/>
            <a:ext cx="80755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9BF9-907A-49BD-B2E5-4875900B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912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2973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9120" y="2973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A8FC-3CCF-4CD2-916A-4D67FBF45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1520" y="1200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760" y="1200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2973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1520" y="2973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760" y="2973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F15F-0961-4667-9FF5-89FE8799F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200240"/>
            <a:ext cx="807552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D5C5-658C-47C6-9C11-F871D73E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80755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7950-96E6-41E6-94DF-FBC28E49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3940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9120" y="1200240"/>
            <a:ext cx="3940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ABD1-AE54-4F72-8401-D0C0FDC4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7F30-E8AF-48BB-8CC3-10135808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1280" y="206280"/>
            <a:ext cx="8075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7BE0-1CBD-413C-AA60-03D824A0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9120" y="1200240"/>
            <a:ext cx="3940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2973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9540-4B9D-4CFA-B0F2-A7425BF0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3940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912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9120" y="2973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42E0-7938-4C18-8F48-3B6F61A5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912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2973240"/>
            <a:ext cx="80755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BE5B-AF28-4BA8-9756-719FE468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200240"/>
            <a:ext cx="80755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1280" y="476676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F578-858F-47CF-A5FF-AB476B59399D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1116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73D6-2700-44BF-8B42-6AA7C078D40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1"/>
          <p:cNvSpPr/>
          <p:nvPr/>
        </p:nvSpPr>
        <p:spPr>
          <a:xfrm>
            <a:off x="7010280" y="11160"/>
            <a:ext cx="2133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9693-2C54-4496-B7DA-6418F72469E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15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9018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2143080" y="142920"/>
            <a:ext cx="42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ТОРЕПОРТАЖ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«Лицей 1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8"/>
          <p:cNvSpPr/>
          <p:nvPr/>
        </p:nvSpPr>
        <p:spPr>
          <a:xfrm>
            <a:off x="2935440" y="987480"/>
            <a:ext cx="3652560" cy="195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сентября 2021г. прошла  ежегодная Всемирная образовательная акция «</a:t>
            </a:r>
            <a:r>
              <a:rPr b="1" i="1" lang="ru-RU" sz="11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Татарча диктант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 «</a:t>
            </a:r>
            <a:r>
              <a:rPr b="1" i="1" lang="ru-RU" sz="11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атарча диктант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— это диктант на татарском языке, обучение татарскому языку без ошибок, увеличение круга пользователей литературного татарского языка, проверка орфографических и грамматических ошибок. Акция направлена на повышение интереса к грамотному правописанию, владению литературным татарским, самопроверку орфографических и грамматических ошибок. Из нашего лицея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няли участие 83 учащих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2" descr=""/>
          <p:cNvPicPr/>
          <p:nvPr/>
        </p:nvPicPr>
        <p:blipFill>
          <a:blip r:embed="rId2"/>
          <a:stretch/>
        </p:blipFill>
        <p:spPr>
          <a:xfrm>
            <a:off x="687240" y="987480"/>
            <a:ext cx="2097360" cy="18320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4" descr=""/>
          <p:cNvPicPr/>
          <p:nvPr/>
        </p:nvPicPr>
        <p:blipFill>
          <a:blip r:embed="rId3"/>
          <a:stretch/>
        </p:blipFill>
        <p:spPr>
          <a:xfrm>
            <a:off x="763560" y="3141720"/>
            <a:ext cx="2067120" cy="16891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6" descr=""/>
          <p:cNvPicPr/>
          <p:nvPr/>
        </p:nvPicPr>
        <p:blipFill>
          <a:blip r:embed="rId4"/>
          <a:stretch/>
        </p:blipFill>
        <p:spPr>
          <a:xfrm>
            <a:off x="3308400" y="3240000"/>
            <a:ext cx="2952720" cy="15652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9" descr=""/>
          <p:cNvPicPr/>
          <p:nvPr/>
        </p:nvPicPr>
        <p:blipFill>
          <a:blip r:embed="rId5"/>
          <a:stretch/>
        </p:blipFill>
        <p:spPr>
          <a:xfrm>
            <a:off x="6765840" y="1130400"/>
            <a:ext cx="2133720" cy="16891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1" descr=""/>
          <p:cNvPicPr/>
          <p:nvPr/>
        </p:nvPicPr>
        <p:blipFill>
          <a:blip r:embed="rId6"/>
          <a:stretch/>
        </p:blipFill>
        <p:spPr>
          <a:xfrm>
            <a:off x="6721560" y="3048120"/>
            <a:ext cx="217800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1"/>
          <p:cNvSpPr/>
          <p:nvPr/>
        </p:nvSpPr>
        <p:spPr>
          <a:xfrm>
            <a:off x="7010280" y="11160"/>
            <a:ext cx="2133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7D4C-D83D-402E-ADBF-85C12C636DB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15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90180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2143080" y="142920"/>
            <a:ext cx="42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ТОРЕПОРТАЖ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«Лицей 1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3"/>
          <p:cNvSpPr/>
          <p:nvPr/>
        </p:nvSpPr>
        <p:spPr>
          <a:xfrm>
            <a:off x="4419720" y="2419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1" descr=""/>
          <p:cNvPicPr/>
          <p:nvPr/>
        </p:nvPicPr>
        <p:blipFill>
          <a:blip r:embed="rId2"/>
          <a:stretch/>
        </p:blipFill>
        <p:spPr>
          <a:xfrm>
            <a:off x="1042920" y="1058760"/>
            <a:ext cx="2303640" cy="18003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5" descr=""/>
          <p:cNvPicPr/>
          <p:nvPr/>
        </p:nvPicPr>
        <p:blipFill>
          <a:blip r:embed="rId3"/>
          <a:stretch/>
        </p:blipFill>
        <p:spPr>
          <a:xfrm>
            <a:off x="6229440" y="1058760"/>
            <a:ext cx="2303280" cy="18003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7" descr=""/>
          <p:cNvPicPr/>
          <p:nvPr/>
        </p:nvPicPr>
        <p:blipFill>
          <a:blip r:embed="rId4"/>
          <a:stretch/>
        </p:blipFill>
        <p:spPr>
          <a:xfrm>
            <a:off x="3635280" y="1058760"/>
            <a:ext cx="2238480" cy="1800360"/>
          </a:xfrm>
          <a:prstGeom prst="rect">
            <a:avLst/>
          </a:prstGeom>
          <a:ln w="0">
            <a:noFill/>
          </a:ln>
        </p:spPr>
      </p:pic>
      <p:sp>
        <p:nvSpPr>
          <p:cNvPr id="61" name="TextBox 15"/>
          <p:cNvSpPr/>
          <p:nvPr/>
        </p:nvSpPr>
        <p:spPr>
          <a:xfrm>
            <a:off x="971640" y="3219480"/>
            <a:ext cx="7632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сентября  прошло внеклассное мероприятие, “Тапкырлар һәм зирәкләр” посвящённое Году родных языков и народного единства. Цель мероприятия - познакомить учащихся с культурой и традициями родного края. Команды 6  классов  показали свои  знания, умения, навыки  по родному языку, отлично справились со всеми заданиями. В заключении, дружно исполненная  песня  "Туган тел" объединила всех  коман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1"/>
          <p:cNvSpPr/>
          <p:nvPr/>
        </p:nvSpPr>
        <p:spPr>
          <a:xfrm>
            <a:off x="7010280" y="11160"/>
            <a:ext cx="2133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4F11-57EF-45DC-B3FF-AA4B60B96A5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5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90180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2143080" y="142920"/>
            <a:ext cx="42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ТОРЕПОРТАЖ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«Лицей 1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6" descr=""/>
          <p:cNvPicPr/>
          <p:nvPr/>
        </p:nvPicPr>
        <p:blipFill>
          <a:blip r:embed="rId2"/>
          <a:stretch/>
        </p:blipFill>
        <p:spPr>
          <a:xfrm>
            <a:off x="3203640" y="843120"/>
            <a:ext cx="2665440" cy="15984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"/>
          <p:cNvPicPr/>
          <p:nvPr/>
        </p:nvPicPr>
        <p:blipFill>
          <a:blip r:embed="rId3"/>
          <a:stretch/>
        </p:blipFill>
        <p:spPr>
          <a:xfrm>
            <a:off x="900000" y="843120"/>
            <a:ext cx="1871640" cy="161748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4" descr=""/>
          <p:cNvPicPr/>
          <p:nvPr/>
        </p:nvPicPr>
        <p:blipFill>
          <a:blip r:embed="rId4"/>
          <a:stretch/>
        </p:blipFill>
        <p:spPr>
          <a:xfrm>
            <a:off x="6372360" y="843120"/>
            <a:ext cx="1873080" cy="1584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16"/>
          <p:cNvSpPr/>
          <p:nvPr/>
        </p:nvSpPr>
        <p:spPr>
          <a:xfrm>
            <a:off x="611280" y="2571840"/>
            <a:ext cx="8208720" cy="21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Arial"/>
              </a:rPr>
              <a:t>Сегодня мы всё чаще обращаемся к духовным ценностям прошлого, пытаемся искать пути восстановления прерванных связей времён, осознаём необходимость изучения своих национальных корней как источника нашего нравственного здоровья, силы и богатства. Занятия внеурочной деятельности «Яшь экскурсовод» расширяет кругозор ребят, воспитывает любовь к малой родине, гордость за свой народ, настоящих людей прошлого и настоящего, воспитываются патриотизм, идеалы гуманизма и справедливости. Учащиеся </a:t>
            </a:r>
            <a:r>
              <a:rPr b="1" i="1" lang="tt-RU" sz="1100" spc="-1" strike="noStrike">
                <a:solidFill>
                  <a:srgbClr val="000000"/>
                </a:solidFill>
                <a:latin typeface="Arial"/>
              </a:rPr>
              <a:t>7 класса </a:t>
            </a:r>
            <a:r>
              <a:rPr b="1" i="1" lang="ru-RU" sz="1100" spc="-1" strike="noStrike">
                <a:solidFill>
                  <a:srgbClr val="000000"/>
                </a:solidFill>
                <a:latin typeface="Arial"/>
              </a:rPr>
              <a:t>принимают активное участие в работе кружка. </a:t>
            </a:r>
            <a:r>
              <a:rPr b="1" i="1" lang="tt-RU" sz="1100" spc="-1" strike="noStrike">
                <a:solidFill>
                  <a:srgbClr val="000000"/>
                </a:solidFill>
                <a:latin typeface="Arial"/>
              </a:rPr>
              <a:t>21 октября для 1 классов была организована экскурсия на выставку, посвящённую культуре татарского народа, где выставлены проектные работы учащихся в виде национальной одежды, элементов быта, угощений, украшений.  В ходе экскурсии ребята окунулись в историю культуры татарского народа, познакомились с их бытм и традициями. Затем с ребятами был проведен мастер-класс по изготовлению броши  с элементом национального орнамента. Посещение выставки стало значимым событием для них, они с интересом восприняли новую информацию и прониклись новыми впечатлениями</a:t>
            </a:r>
            <a:r>
              <a:rPr b="1" i="1" lang="tt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3T08:15:21Z</dcterms:created>
  <dc:creator>Ковалева Валерия Юрьевна</dc:creator>
  <dc:description/>
  <dc:language>en-US</dc:language>
  <cp:lastModifiedBy>1</cp:lastModifiedBy>
  <cp:lastPrinted>2021-02-04T07:26:50Z</cp:lastPrinted>
  <dcterms:modified xsi:type="dcterms:W3CDTF">2021-11-12T19:10:34Z</dcterms:modified>
  <cp:revision>466</cp:revision>
  <dc:subject/>
  <dc:title>Презентация PowerPoint</dc:title>
</cp:coreProperties>
</file>